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D68F3A2-A1D7-4C0B-8D27-2F4BCBD9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A1FD1-6269-490B-A079-AF6938E215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A8A00-692D-414F-939B-4DC4C6364A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EC32C-DDA4-48CB-93A0-CF942D8342B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60D0F-2D51-433E-AE69-301DC422761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74D8F-2334-4DA3-BDAA-CB06F06F9ED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8EC-5054-4BC8-AAB2-716FEAAE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9A9-6E52-4BEB-8003-6CCE22D9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A92-4B3C-4DA1-A911-EFC3651E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AAD-9A35-4B68-923A-44B0597A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BEB2-BCED-4B6C-B2C6-1EFAA2AB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66AD-CBCA-452F-A4F7-41321EE3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3123-8288-4E20-968C-A197211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D54-50DA-4D38-8B6B-231D59E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41F6-21AC-48CB-86B5-FB5C1057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754E-2862-4934-8E67-BE34DC84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6AC6-36D8-44DC-ABB0-7E9E5617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7E6-BCE2-42DE-AD17-789A4A0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70E4-66D9-422E-8A0D-58F6AD8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2FC2-3601-4F4E-BDE5-1F341726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4CD-F192-4F47-9915-423F35D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184E-E6D2-4390-8EC4-77BA6E2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E996-FB0A-4422-922C-48681A05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FC4-75CA-46FC-8606-BA245F70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E9F-BCC1-4940-A87E-5FE4896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468-27FE-4051-8283-5CFD0A91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CFA-79A8-4478-9F7C-DD26AB39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518-5217-4516-B0BA-D710D99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D82-ADF8-47C2-81F9-F9BA3005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98C-D2EC-479D-B7EA-B86C46D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E2A3-E2A0-47AD-9524-7E63D17C63A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BC2C-9B5D-4657-82E7-4EF68308CAC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17C1-C428-4EDA-BE13-2B1368F140E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3.2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3.3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LoFaro Linda</cp:lastModifiedBy>
  <dcterms:modified xsi:type="dcterms:W3CDTF">2009-08-21T17:33:58Z</dcterms:modified>
  <cp:revision>165</cp:revision>
  <dc:subject/>
  <dc:title>Math GAINS 2008-09</dc:title>
</cp:coreProperties>
</file>